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breeze.wav" ContentType="audio/x-wav"/>
  <Override PartName="/ppt/media/image3.png" ContentType="image/png"/>
  <Override PartName="/ppt/media/arrow.wav" ContentType="audio/x-wav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push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2C2-2D3E-495F-8501-5F469600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ADE-FB79-48FC-A87B-53B7B588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97E-9C87-4064-B4D3-A72DFF19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251-F771-4CBC-A7F2-1EE4DF2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CF9-73A7-4BD1-82E3-476F1081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078-7A3D-42EF-A792-3440469A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09C-69AC-4E51-A7B8-2C1A9E6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BE2-1EAB-4B78-A67C-F84F7F5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0BD9-A452-4815-9C51-510791E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98C-7EB0-4B7F-9F3E-6ABB7E34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BC1D-6239-473A-AE33-35FEB6D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F90-622D-4C75-BAF4-36893BB9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BA8E-1D12-4DE9-B602-EFECE151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B889-EBC3-42D7-B913-1886557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949C-D1A4-43F3-B4D0-2CAE0644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45F-A14B-4796-860B-11DBFB93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788-934A-4785-B435-D5E0AA57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EF9-6892-499D-8B95-DBFD32F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B50-A948-487C-A488-15752D0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71B-2C07-4582-B5FF-9807D49C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155-0838-4C01-9CAC-3626982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4C7-F122-48EE-AF2C-F76E766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9B8-63CA-4E83-9573-8339E2C3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CB2-4FA4-4A1D-B4C6-D0B32F5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CFCD-630F-498B-A929-DE769F5E8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48A-7042-4DA6-A29D-1283ACDB6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5c984"/>
                </a:solidFill>
                <a:latin typeface="Arial"/>
              </a:rPr>
              <a:t>Свойств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5c984"/>
                </a:solidFill>
                <a:latin typeface="Arial"/>
              </a:rPr>
              <a:t>ЗВУ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риятие звуков человеком субъективно: например, один и тот же звук два человека могут воспринимать по-разному: одному звук кажется нормальным, а другому – очень громк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бъективной характеристикой звука является его  громкость. Громкость зависит не только от звуковой волны, но и от чувствительности 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диницу громкости называют белом (Б) в честь физика Генриха Бела. Но на практике пользуются дольной единицей – децибелом (д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омкость звука зависит от амплитуды колебаний: чем больше амплитуда, тем громче зву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По санитарным нормам уровень громкости шумов не должен превосходить 30-40 д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Наше ухо воспринимает в виде звука колеб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от 17 до  20 000Г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 дБ -  Тихий шепот, шелест лист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–30 дБ – норма шума в жилых помещениях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 дБ – тихий разговор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 дБ – разговор средней громкости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 дБ – шум пишущей машинки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 дБ – шум работающего двигателя грузового автомобиля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 дБ – громкий автомобильный сигнал на расстоянии 5–7 м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 дБ – шум работающего трактора на расстоянии 1 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 дБ – Рок-концер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 дБ – порог болевого ощу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0 дБ - пистолетный выстрел на небольшом расстоя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6fb1b"/>
                </a:solidFill>
                <a:latin typeface="Arial"/>
              </a:rPr>
              <a:t>Звук громкостью свыше 180 дБ может даже вызвать разрыв барабанной перепонки</a:t>
            </a:r>
            <a:r>
              <a:rPr b="0" lang="en-US" sz="2400" spc="-1" strike="noStrike">
                <a:solidFill>
                  <a:srgbClr val="7b46d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апля воды"/>
          <p:cNvPicPr/>
          <p:nvPr/>
        </p:nvPicPr>
        <p:blipFill>
          <a:blip r:embed="rId1"/>
          <a:stretch/>
        </p:blipFill>
        <p:spPr>
          <a:xfrm>
            <a:off x="3203640" y="260280"/>
            <a:ext cx="3960720" cy="2635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2007 Lamborghini Gallardo Superleggera"/>
          <p:cNvPicPr/>
          <p:nvPr/>
        </p:nvPicPr>
        <p:blipFill>
          <a:blip r:embed="rId2"/>
          <a:stretch/>
        </p:blipFill>
        <p:spPr>
          <a:xfrm>
            <a:off x="4788000" y="3860640"/>
            <a:ext cx="3598920" cy="2256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5680" cy="360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36716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-0.14676 L -0.00381 0.18658 E">
                                      <p:cBhvr>
                                        <p:cTn id="10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661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При длительном воздействии на организм громких звуков может возникнуть «шумовая болезн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птом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высокое артериальное давление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повышенная нервная возбуд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тугоух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быстрая утомляе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плохой 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7,-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70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торой субъективной характеристикой звука является тембр. (Помогает различать 2 звука одинаковой высоты и громкост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Тембр зву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окраска звука, зависящая от его источ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тьей субъективной характеристикой звука является его высо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Высота зву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зависит от его частоты: чем больше частота звука, тем звук выше и наоборот, чем ниже частота, тем звук ни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22:41Z</dcterms:created>
  <dc:creator>Zver</dc:creator>
  <dc:description/>
  <dc:language>en-US</dc:language>
  <cp:lastModifiedBy>Admin</cp:lastModifiedBy>
  <dcterms:modified xsi:type="dcterms:W3CDTF">2018-09-19T06:44:51Z</dcterms:modified>
  <cp:revision>28</cp:revision>
  <dc:subject/>
  <dc:title>ХаРаКтЕрИсТиКи</dc:title>
</cp:coreProperties>
</file>